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842-42D1-4ABB-B968-76CC27E0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527-FBF4-417D-975A-52487E34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EFEC2-BAA8-4DA5-9877-8B1A61F8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7C7DA-39B2-458A-87B4-5E7C9E49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5BBD-BBCC-4ECD-BF50-D6D5BE0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B557-68A9-4BFE-9D8A-D3E6FA8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E526A-A393-47C9-9E0E-E6E43FB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DA2AD-F737-4414-8E97-1A92313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6C543-B22D-4B14-A2C9-1BCC0C61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B1510-6EC2-47D8-9ABE-CD65DA3A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23859-140B-4CB1-8687-0321F7E7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CBC-759B-44D7-80A4-642CEA6D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BE5-5462-47C2-B3E9-3594A8F5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1E23-8A55-46DF-808B-92232713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75AB-4066-4FDA-BEFF-78C70818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09EA-A996-4C16-9831-BEF60D03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4D6C-2F73-4C70-8F25-89C5882F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AF5C-27C0-41EE-BFBB-CE6E01D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689F-0845-44EE-8AF5-FB0A21E5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21B7-78A7-4A6E-B0EA-53442D7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211-85B7-4058-A4FC-6A25BF5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C427-0539-44BF-8F18-6336F32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A07C-F17E-4875-B140-6E53A78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7DCC-C253-4C8C-ADD1-8FFFA8DD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51CD-FFCC-412E-90E1-2BA9BD72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7D89-8735-4638-A8EC-B5F8FC8E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C892-A6F0-447C-BDCD-F3D10FE1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6965-1702-4F2B-BF91-3F80A026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10A3-A47A-437B-873C-D39C74C2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897F-8F28-4B4E-9765-C0B5B8A9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1573-E55B-4202-9360-7F9B09A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BF6-2DA3-41D2-9B68-11C36E58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FA10-75C2-4F0F-9990-1671E12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C253-6B37-465B-B354-D347026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93FC-62C1-4216-B302-682DF30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86469-AEB4-4B3F-88C5-B5FF499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B3F8-C823-49E2-9C09-096CAD98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3E59-08B3-43ED-87F8-A66453BD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1666A-BDEC-478F-9589-50CA90A5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B7A3-A49E-41D0-AF39-581B94E4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16F5-FA8D-4903-AD4E-458E8A5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7F12-1DD0-4B96-8A8D-F77AB58E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E5F-597F-4980-BE85-5354B901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C493-162C-4081-B314-A363C9A2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41C2-6AC3-4CC9-A089-4BA361D7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C3097-4C04-408A-BD8F-6CC38DE2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F2EB8-371F-47D1-8F37-0D9C2A96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92057-DF20-4A00-8EC9-FC1F8BC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B70E-004F-4EFB-90F5-8783FB6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F7252-9FFA-4ECE-9016-2A8BB8D1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21DD-5158-4C10-917A-8DE28054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EF22-4773-4FCC-B397-44E47DED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D0DF8-ED99-4284-9C01-143ABCEB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195-483F-4A1B-9670-594E1398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ED42D-EE8D-42AF-9EB0-C4BE0C2C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77BC7-D0CA-447F-BF63-3D655404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C181B-5136-4CFE-8B30-E60D70B6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661D-DD2D-48A7-A526-10B8567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2B20-A6DC-478F-97F7-3BCDB831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775E1-C175-4026-8BE0-5D02091F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3498-F8BA-43D8-BCBE-9FD35A36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7169-B75D-4FB0-AE53-E9EB9FB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211D-89BC-4337-8F80-F8E2C92D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BF653-4F78-4B2C-89BB-BF0C7CF9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BB2-4303-4495-9413-F32D5D31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4C62-8BCA-4D60-8C41-8B324AD8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DC35-8B41-4A5A-A452-9F1CE53B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E570-3850-4AB5-B782-89E4C80B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E438-2C7D-4FDB-BEA3-E088FEA5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BB91-4414-4DFE-8DC3-0CC34B7D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4188-BCD9-4C37-84C1-32CA28C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0E18-0022-4A77-9E84-71ED6CD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11D9-1E9B-4641-906A-81663EC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7478-6D24-4AC3-80ED-B0B50435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06004-AD9E-490A-A873-B1930F6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7C52-895B-46EC-AA3E-BD23532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226E-1FA6-4B50-9BC3-E340CC3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B6EA2-81DA-4E69-BB6F-971E60D7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6E8C-439D-4854-A7A4-80C0DF83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D3348-76DC-4E8B-A831-143036E9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B0166-33D8-4CD8-8DC7-6DFE062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37D90-1EFE-44B1-9053-8F6464F3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F8AC-E060-4077-A19A-ED4CA772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048A-589C-4254-8C45-92E6123A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F796-7940-41F7-A3AE-3413FE8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19A9D-70CA-4C7E-AE25-17A4A0B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938-6A4E-4363-92E0-9C99CA3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74286-9CA7-47F1-AE2F-8897AC53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37DB-3525-41A8-94DA-0C83CDF5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C728-1A01-45DA-AF46-105C3D07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9A7F-34F4-4021-89D1-E6E0BF5E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A9E8-87E3-45B3-8BC5-8BF3285A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AE20-A3C9-4134-ABA8-696C3C15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8CDA1-BC09-4FF7-855C-C4E1006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92FCF-4479-4FDD-8CD4-A496533D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616C5-3792-425B-858D-84A8BA0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19805-5417-459C-AF78-64D07CC7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A09-4E87-4D26-8152-AC3FF3B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1545-FC8C-4183-AE35-51CF0D47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47B49-794B-4F82-B5E6-D0C2C62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DDD71-FB6D-4363-828B-6EBBD92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5696-0277-4EBA-96E8-CBF53A38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AE7EF-768E-4AF0-84A6-7951A0A2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EAABA-23E0-4A7E-8086-3250ECE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F4BA-E0FE-44D1-BBD7-A64B4236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477AF-4E01-4040-8443-6EE05A88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A9920-F054-4DC0-9E30-F0A8B8DC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2B147-824B-4CA3-8831-762486E9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9C18-1D79-4A99-9EFA-46CDB58CA9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0A7F-1417-4333-A23C-CD2A3F09A07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0B96-2594-4CAB-AB8B-D83B277B33C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FB00-74E4-4373-8CC4-6961F82317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C4F1-8C18-4EA5-B13E-1DAD8C56C45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E97F-2662-4FDD-8F0E-0A30278C61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E5BB-000F-4C76-A4A9-2E7FAEA5A20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93AA-7D56-474F-B092-22829053E1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8FCB-4E09-46A1-99E2-F48DE08753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 </a:t>
            </a:r>
            <a:r>
              <a:rPr b="0" i="1" lang="en-US" sz="2400" spc="-1" strike="noStrike">
                <a:solidFill>
                  <a:srgbClr val="443329"/>
                </a:solidFill>
                <a:latin typeface="Franklin Gothic Book"/>
              </a:rPr>
              <a:t>Chapter 3 Section 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am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mend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es the reason and goals of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form a more perfect Union, establish Justice, insure domestic Tranquility, provide for the common defense, promote the general Welfare, and secure the Blessings of Liberty to ourselves and our poste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1 establishes the legislative branch and it’s rules of ope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2 creates and defines the executive branch (to carry out laws made by the legislative branch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3 establishes the Supreme Court, or judicial branch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anges to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Constitution has been amended 27 times throughout the nation’s history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first 10 amendments are known as the Bill of Righ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 – rule by the peop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 – power shared between Federal and State govern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 – the three branches of government created in the articles each have responsibilities to keep any one branch from having too much pow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– each branch of government exercises some control over the oth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 – the Court decides whether or not laws are constitution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 – the Constitution limits the actions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2:05:06Z</dcterms:created>
  <dc:creator>Jan</dc:creator>
  <dc:description/>
  <dc:language>en-US</dc:language>
  <cp:lastModifiedBy>Jan</cp:lastModifiedBy>
  <dcterms:modified xsi:type="dcterms:W3CDTF">2010-07-19T12:32:28Z</dcterms:modified>
  <cp:revision>3</cp:revision>
  <dc:subject/>
  <dc:title>The American Constitution</dc:title>
</cp:coreProperties>
</file>